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45880" y="414360"/>
            <a:ext cx="3584520" cy="24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44600" y="3060360"/>
            <a:ext cx="5780160" cy="59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12560" y="9347040"/>
            <a:ext cx="57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2074AA-6A97-430F-90A8-8A1CD5FD9021}" type="slidenum">
              <a:rPr b="0" lang="en-US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4600" y="9347040"/>
            <a:ext cx="133128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© Alexander Markow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46240" y="414360"/>
            <a:ext cx="3584520" cy="2481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44600" y="3060360"/>
            <a:ext cx="5780160" cy="59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Schools and Church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ecting instead of just letting the suppliers drop of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pay more than the average Second hand 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ailing close to the customers – strategic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ing a ‚near new‘ perceptio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through product pre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825480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20840" y="3974760"/>
            <a:ext cx="825480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50840" y="190512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20840" y="397476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50840" y="397476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265788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11920" y="1905120"/>
            <a:ext cx="265788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03000" y="1905120"/>
            <a:ext cx="265788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20840" y="3974760"/>
            <a:ext cx="265788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11920" y="3974760"/>
            <a:ext cx="265788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03000" y="3974760"/>
            <a:ext cx="265788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20840" y="1905120"/>
            <a:ext cx="8254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8254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4028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50840" y="1905120"/>
            <a:ext cx="4028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20840" y="685800"/>
            <a:ext cx="8254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50840" y="1905120"/>
            <a:ext cx="4028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20840" y="397476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20840" y="1905120"/>
            <a:ext cx="8254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4028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50840" y="190512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50840" y="397476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50840" y="190512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20840" y="3974760"/>
            <a:ext cx="825480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825480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20840" y="3974760"/>
            <a:ext cx="825480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50840" y="190512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20840" y="397476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550840" y="397476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265788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11920" y="1905120"/>
            <a:ext cx="265788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03000" y="1905120"/>
            <a:ext cx="265788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20840" y="3974760"/>
            <a:ext cx="265788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111920" y="3974760"/>
            <a:ext cx="265788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03000" y="3974760"/>
            <a:ext cx="265788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8254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4028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50840" y="1905120"/>
            <a:ext cx="4028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20840" y="685800"/>
            <a:ext cx="8254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50840" y="1905120"/>
            <a:ext cx="4028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20840" y="397476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4028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50840" y="190512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50840" y="397476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50840" y="1905120"/>
            <a:ext cx="402804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20840" y="3974760"/>
            <a:ext cx="825480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_ICM2906%20Kopie" descr=""/>
          <p:cNvPicPr/>
          <p:nvPr/>
        </p:nvPicPr>
        <p:blipFill>
          <a:blip r:embed="rId2"/>
          <a:stretch/>
        </p:blipFill>
        <p:spPr>
          <a:xfrm>
            <a:off x="0" y="685800"/>
            <a:ext cx="9906120" cy="548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20840" y="1905120"/>
            <a:ext cx="8254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9376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30160" indent="-2286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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4588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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998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UniversS 55 Roman"/>
              <a:buChar char="–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998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UniversS 55 Roman"/>
              <a:buChar char="–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998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UniversS 55 Roman"/>
              <a:buChar char="–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600200"/>
            <a:ext cx="9906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usb%20logo" descr=""/>
          <p:cNvPicPr/>
          <p:nvPr/>
        </p:nvPicPr>
        <p:blipFill>
          <a:blip r:embed="rId3"/>
          <a:stretch/>
        </p:blipFill>
        <p:spPr>
          <a:xfrm>
            <a:off x="7162920" y="152280"/>
            <a:ext cx="2438280" cy="943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315800" y="6172200"/>
            <a:ext cx="2587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Fulltime MBA 2002, Group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78200" y="6172200"/>
            <a:ext cx="105768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23CC-2025-4E6D-B5AB-E4B3A3AD7C3E}" type="slidenum">
              <a:rPr b="1" lang="de-DE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4240" y="6172200"/>
            <a:ext cx="10774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2002-03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59240" y="-76320"/>
            <a:ext cx="1166040" cy="967320"/>
            <a:chOff x="759240" y="-76320"/>
            <a:chExt cx="1166040" cy="967320"/>
          </a:xfrm>
        </p:grpSpPr>
        <p:sp>
          <p:nvSpPr>
            <p:cNvPr id="9" name=""/>
            <p:cNvSpPr/>
            <p:nvPr/>
          </p:nvSpPr>
          <p:spPr>
            <a:xfrm>
              <a:off x="759240" y="-76320"/>
              <a:ext cx="1166040" cy="9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oth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45080" y="228240"/>
              <a:ext cx="5670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 Black"/>
                </a:rPr>
                <a:t>ST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ackground_ICM2906%20Kopie" descr=""/>
          <p:cNvPicPr/>
          <p:nvPr/>
        </p:nvPicPr>
        <p:blipFill>
          <a:blip r:embed="rId2"/>
          <a:stretch/>
        </p:blipFill>
        <p:spPr>
          <a:xfrm>
            <a:off x="0" y="685800"/>
            <a:ext cx="990612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600200"/>
            <a:ext cx="9906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KGND%20SBS%20TITELPLATTE%201024" descr=""/>
          <p:cNvPicPr/>
          <p:nvPr/>
        </p:nvPicPr>
        <p:blipFill>
          <a:blip r:embed="rId3"/>
          <a:stretch/>
        </p:blipFill>
        <p:spPr>
          <a:xfrm>
            <a:off x="0" y="685800"/>
            <a:ext cx="9906120" cy="5491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06520" indent="95040" algn="ctr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Wingdings" charset="2"/>
              <a:buChar char=""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36560" indent="9540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S 55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UniversS 55 Roman"/>
            </a:endParaRPr>
          </a:p>
          <a:p>
            <a:pPr lvl="4" marL="984240" indent="95400" algn="ctr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UniversS 55 Roman"/>
              <a:buChar char="–"/>
              <a:tabLst>
                <a:tab algn="l" pos="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UniversS 55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UniversS 55 Roman"/>
            </a:endParaRPr>
          </a:p>
          <a:p>
            <a:pPr lvl="5" marL="984240" indent="95400">
              <a:spcBef>
                <a:spcPts val="374"/>
              </a:spcBef>
              <a:buClr>
                <a:srgbClr val="000000"/>
              </a:buClr>
              <a:buFont typeface="UniversS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UniversS 55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UniversS 55 Roman"/>
            </a:endParaRPr>
          </a:p>
          <a:p>
            <a:pPr lvl="6" marL="984240" indent="95400">
              <a:spcBef>
                <a:spcPts val="374"/>
              </a:spcBef>
              <a:buClr>
                <a:srgbClr val="000000"/>
              </a:buClr>
              <a:buFont typeface="UniversS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UniversS 55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5962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TAR Cloth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0840" y="4343400"/>
            <a:ext cx="7099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sentation by Group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BA Full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62120" y="822240"/>
            <a:ext cx="2743200" cy="2606400"/>
            <a:chOff x="762120" y="822240"/>
            <a:chExt cx="2743200" cy="2606400"/>
          </a:xfrm>
        </p:grpSpPr>
        <p:sp>
          <p:nvSpPr>
            <p:cNvPr id="96" name=""/>
            <p:cNvSpPr/>
            <p:nvPr/>
          </p:nvSpPr>
          <p:spPr>
            <a:xfrm>
              <a:off x="762120" y="822240"/>
              <a:ext cx="2743200" cy="2606400"/>
            </a:xfrm>
            <a:prstGeom prst="star5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1360" y="1660320"/>
              <a:ext cx="1166040" cy="967320"/>
              <a:chOff x="1521360" y="1660320"/>
              <a:chExt cx="1166040" cy="967320"/>
            </a:xfrm>
          </p:grpSpPr>
          <p:sp>
            <p:nvSpPr>
              <p:cNvPr id="98" name=""/>
              <p:cNvSpPr/>
              <p:nvPr/>
            </p:nvSpPr>
            <p:spPr>
              <a:xfrm>
                <a:off x="1521360" y="1660320"/>
                <a:ext cx="1166040" cy="96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loth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7200" y="1964880"/>
                <a:ext cx="56700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 Black"/>
                  </a:rPr>
                  <a:t>ST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hallenges and Reward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8254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tting Second Hand Clothes in sufficient quality and qua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ndling Cash in 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urity for the Sh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ing Employment by Outsour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lling too mu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owing too 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pcoming Competitors and Follo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2720" y="762120"/>
            <a:ext cx="434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66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BD05219_" descr=""/>
          <p:cNvPicPr/>
          <p:nvPr/>
        </p:nvPicPr>
        <p:blipFill>
          <a:blip r:embed="rId1"/>
          <a:stretch/>
        </p:blipFill>
        <p:spPr>
          <a:xfrm>
            <a:off x="6095880" y="2666880"/>
            <a:ext cx="3660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8254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nagement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siness Pro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pportunities in the Bus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rget Market Kyaman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uth African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sks and Rew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Kick-off Present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8254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Clr>
                <a:srgbClr val="336666"/>
              </a:buClr>
              <a:buFont typeface="Arial"/>
              <a:buAutoNum type="arabicPeriod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Clr>
                <a:srgbClr val="336666"/>
              </a:buClr>
              <a:buFont typeface="Arial"/>
              <a:buAutoNum type="arabicPeriod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Clr>
                <a:srgbClr val="336666"/>
              </a:buClr>
              <a:buFont typeface="Arial"/>
              <a:buAutoNum type="arabicPeriod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Clr>
                <a:srgbClr val="336666"/>
              </a:buClr>
              <a:buFont typeface="Arial"/>
              <a:buAutoNum type="arabicPeriod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hallenges and Re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TAR Clothing Executive Tea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03180002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5038920" cy="4227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52720" y="762120"/>
            <a:ext cx="434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6666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rofile of the Busin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1919160"/>
            <a:ext cx="2514600" cy="96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lle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r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30400" y="4509720"/>
            <a:ext cx="1753920" cy="96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e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econd H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rand Clot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8240" y="5353920"/>
            <a:ext cx="1374480" cy="418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4065600">
            <a:off x="6765120" y="3383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9961200">
            <a:off x="4738680" y="50000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8160" y="2376000"/>
            <a:ext cx="1205280" cy="418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153600">
            <a:off x="3138120" y="2209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2720" y="762120"/>
            <a:ext cx="434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66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BD10399_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182088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95280" y="1600200"/>
          <a:ext cx="6604200" cy="4402080"/>
        </p:xfrm>
        <a:graphic>
          <a:graphicData uri="http://schemas.openxmlformats.org/drawingml/2006/table">
            <a:tbl>
              <a:tblPr/>
              <a:tblGrid>
                <a:gridCol w="1067040"/>
                <a:gridCol w="1135080"/>
                <a:gridCol w="2199960"/>
                <a:gridCol w="2202120"/>
              </a:tblGrid>
              <a:tr h="1467000">
                <a:tc rowSpan="2">
                  <a:txBody>
                    <a:bodyPr lIns="72360" rIns="72360" tIns="72360" bIns="72360" anchor="t" vert="eaVer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360" marR="7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72000" bIns="720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3120"/>
                          <a:tab algn="l" pos="2324160"/>
                          <a:tab algn="l" pos="2905200"/>
                          <a:tab algn="l" pos="3486240"/>
                          <a:tab algn="l" pos="4067280"/>
                          <a:tab algn="l" pos="4648320"/>
                          <a:tab algn="l" pos="5229360"/>
                          <a:tab algn="l" pos="5810400"/>
                          <a:tab algn="l" pos="6391440"/>
                          <a:tab algn="l" pos="6972480"/>
                          <a:tab algn="l" pos="7553160"/>
                          <a:tab algn="l" pos="8134200"/>
                          <a:tab algn="l" pos="8715240"/>
                          <a:tab algn="l" pos="9296280"/>
                          <a:tab algn="l" pos="9877320"/>
                          <a:tab algn="l" pos="1045836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for Brand Clot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6019920" y="1600200"/>
            <a:ext cx="1676160" cy="1447920"/>
            <a:chOff x="6019920" y="1600200"/>
            <a:chExt cx="1676160" cy="1447920"/>
          </a:xfrm>
        </p:grpSpPr>
        <p:sp>
          <p:nvSpPr>
            <p:cNvPr id="118" name=""/>
            <p:cNvSpPr/>
            <p:nvPr/>
          </p:nvSpPr>
          <p:spPr>
            <a:xfrm>
              <a:off x="6019920" y="1600200"/>
              <a:ext cx="1676160" cy="1447920"/>
            </a:xfrm>
            <a:prstGeom prst="star5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482160" y="2057400"/>
              <a:ext cx="778680" cy="631800"/>
              <a:chOff x="6482160" y="2057400"/>
              <a:chExt cx="778680" cy="631800"/>
            </a:xfrm>
          </p:grpSpPr>
          <p:sp>
            <p:nvSpPr>
              <p:cNvPr id="120" name=""/>
              <p:cNvSpPr/>
              <p:nvPr/>
            </p:nvSpPr>
            <p:spPr>
              <a:xfrm>
                <a:off x="6482160" y="2057400"/>
                <a:ext cx="778680" cy="63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loth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59280" y="2255760"/>
                <a:ext cx="416160" cy="28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 Black"/>
                  </a:rPr>
                  <a:t>STA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252720" y="762120"/>
            <a:ext cx="434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019920" y="3086280"/>
            <a:ext cx="1676160" cy="1447560"/>
            <a:chOff x="6019920" y="3086280"/>
            <a:chExt cx="1676160" cy="1447560"/>
          </a:xfrm>
        </p:grpSpPr>
        <p:sp>
          <p:nvSpPr>
            <p:cNvPr id="124" name=""/>
            <p:cNvSpPr/>
            <p:nvPr/>
          </p:nvSpPr>
          <p:spPr>
            <a:xfrm>
              <a:off x="6019920" y="3086280"/>
              <a:ext cx="1676160" cy="1447560"/>
            </a:xfrm>
            <a:prstGeom prst="star5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482160" y="3543120"/>
              <a:ext cx="778680" cy="631800"/>
              <a:chOff x="6482160" y="3543120"/>
              <a:chExt cx="778680" cy="631800"/>
            </a:xfrm>
          </p:grpSpPr>
          <p:sp>
            <p:nvSpPr>
              <p:cNvPr id="126" name=""/>
              <p:cNvSpPr/>
              <p:nvPr/>
            </p:nvSpPr>
            <p:spPr>
              <a:xfrm>
                <a:off x="6482160" y="3543120"/>
                <a:ext cx="778680" cy="63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loth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59280" y="3741120"/>
                <a:ext cx="416160" cy="28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 Black"/>
                  </a:rPr>
                  <a:t>STA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Future Opportun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8254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ow Inventory, and high possibility to g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ore Retail Shops in same target-mar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AR Clothing Brand la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reating Employ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2720" y="762120"/>
            <a:ext cx="434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66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BS01316_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2186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arget Market - Kyamand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20840" y="1905120"/>
            <a:ext cx="8254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40.000-50.000 people living in the tow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verage Income is R 1200-35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hop is between train station and tow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2720" y="762120"/>
            <a:ext cx="434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BD06682_" descr=""/>
          <p:cNvPicPr/>
          <p:nvPr/>
        </p:nvPicPr>
        <p:blipFill>
          <a:blip r:embed="rId1"/>
          <a:stretch/>
        </p:blipFill>
        <p:spPr>
          <a:xfrm>
            <a:off x="4724280" y="4038480"/>
            <a:ext cx="38102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320840" y="1905120"/>
            <a:ext cx="8254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lation at the moment 8-9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est at 1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ak Curr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owing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V Inf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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&gt;Leads to our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2720" y="762120"/>
            <a:ext cx="434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66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ZA" descr=""/>
          <p:cNvPicPr/>
          <p:nvPr/>
        </p:nvPicPr>
        <p:blipFill>
          <a:blip r:embed="rId1"/>
          <a:stretch/>
        </p:blipFill>
        <p:spPr>
          <a:xfrm>
            <a:off x="1295280" y="836640"/>
            <a:ext cx="1143000" cy="763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outh African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 Mark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 Narrow"/>
              </a:rPr>
              <a:t>Financial Figur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252720" y="762120"/>
            <a:ext cx="434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66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95280" y="1600200"/>
          <a:ext cx="7620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7620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4:07:55Z</dcterms:created>
  <dc:creator>xxale</dc:creator>
  <dc:description>09-00</dc:description>
  <dc:language>en-US</dc:language>
  <cp:lastModifiedBy>Room210</cp:lastModifiedBy>
  <cp:lastPrinted>2001-04-20T17:39:10Z</cp:lastPrinted>
  <dcterms:modified xsi:type="dcterms:W3CDTF">2002-03-22T15:38:40Z</dcterms:modified>
  <cp:revision>38</cp:revision>
  <dc:subject/>
  <dc:title>STAR Clothing</dc:title>
</cp:coreProperties>
</file>